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E0B9-7CBC-4146-90A3-0ADA7DD7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19CD-4C50-41B4-841D-86B8B04C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FD16-A9B8-4F51-A802-F27A096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F7CF-7BFC-4F95-9CD9-392AAD63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27AA-60F7-4E82-B3E0-9B6C2294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CA8F-5AB6-46EB-9822-A599ED5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700C-EA64-45DA-B66C-49D8EDD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D961-45D2-43B5-B1BB-C988799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87A2-554A-4A52-8F63-310DD510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9400-AA8C-4A5B-9781-D4113B1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C03-3025-47F9-93B2-2DA368F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B2B1-2DE0-428A-82A2-A9B43E9A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E67-DB3F-4689-BD56-E9C4257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D01D-D1CC-4DA3-910D-17E687F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263-620A-451F-85CD-0B7B2C2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37EF-3F9A-4D8F-8E4B-AF349F0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8C4-81E6-47AF-8C65-3E501ABC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BDF5-340D-4F65-B83A-D903A730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B954-9475-44E9-9A18-BC5070D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1E01-6F10-46DF-931B-3C19B57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FAE4-ADED-41FD-9543-857A514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6188-A683-45B6-AE07-416C580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9575-B20A-4E59-B60D-DF2CF8C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E801-12F4-4D43-9842-B5F8EC6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19A1-B9EB-4922-BC75-B80D66EF4E9B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B942-262F-4A3F-8052-9C8F16299BC0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837120" cy="29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NIŽENJE NIVOA PODZEMNIH VO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837120" cy="335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NIŽENJE NIVOA PODZEMNIH VO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37120" cy="435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NIŽENJE NIVOA PODZEMNIH VO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78560" cy="614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NIŽENJE NIVOA PODZEMNIH VOD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3:57:36Z</dcterms:created>
  <dc:creator>IGH</dc:creator>
  <dc:description/>
  <dc:language>en-US</dc:language>
  <cp:lastModifiedBy>IGHOS</cp:lastModifiedBy>
  <dcterms:modified xsi:type="dcterms:W3CDTF">2009-04-16T12:10:29Z</dcterms:modified>
  <cp:revision>13</cp:revision>
  <dc:subject/>
  <dc:title>SNIŽENJE NIVOA PODZEMNIH VO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